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5D3C-BAA9-49BA-9907-1314CE31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to these children as a result of being disaffected for many ye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roup drops out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7 – 8 …. “What Happened?” ---- collaboration, working together,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one, write it down so you COMM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394-2247-49E7-A6D6-DA2FC589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C92-336B-4CDC-AF4E-A0A5A94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449-6681-4634-BA8E-CC45F239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9C0-6EDB-4F70-A3C1-E078C75B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5F456-4969-4C0B-B639-B9A6B48F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E41F8-D2A2-48BF-AEF3-DCCC3B4B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1236-632D-4FD2-829B-9F08BE33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8E766-E765-4F75-ACD8-C8FE7F44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27400-D059-49A8-B094-B2B1FC86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1EDE3-C81D-42B1-8D65-059549A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9DABE-96B3-479C-8084-0AC2C26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0A2-498D-4CB2-B2EA-D16AE36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A6E66-EF6C-47B8-926F-4B3E2B9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16D9F-B230-46CB-B683-6F96F9A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9838A-D1E0-4A01-AC5A-A5EB9F8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5D9F-93CA-4307-9A80-DE95DD52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34D50-59E2-44CE-9B7D-5F32CE3E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335-0105-4778-83DA-1966BE8A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A6D-999B-4FC5-84CE-EA3336D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107-5BD4-4B31-94B6-EB21B519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04C-2FFD-4480-8F02-C2070A45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988-62A5-4313-AC09-F94300B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843-62F6-4075-9613-20B7733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3C3-D4B4-4750-8D51-8931F23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E73-1DF9-42F1-8E92-F3AC3099E0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9285-548C-4EAA-99B0-862A6CC405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nfiction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Engaging &amp; Motivating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51814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4038480"/>
            <a:ext cx="17398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38680" y="4078440"/>
            <a:ext cx="2190960" cy="1388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715000" y="4125960"/>
            <a:ext cx="2114640" cy="134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286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4343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ho Drop Ou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2038320" cy="1292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sonalization to help disaffected student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own talents and aspi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pathway toward their own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 cooperativ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others on challenging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tain a rec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ir explorations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monstrate their l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clear standards in a variety of med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with the close support of Adult Mentors &amp; Gu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’s happening with personaliza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447920"/>
          <a:ext cx="8229600" cy="4538520"/>
        </p:xfrm>
        <a:graphic>
          <a:graphicData uri="http://schemas.openxmlformats.org/drawingml/2006/table">
            <a:tbl>
              <a:tblPr/>
              <a:tblGrid>
                <a:gridCol w="4267080"/>
                <a:gridCol w="1295640"/>
                <a:gridCol w="1371600"/>
                <a:gridCol w="1295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are happ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spend time with m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teachers like ki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talk with kids informall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play and have fu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n adult in my school I could talk to if I had a proble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70572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 Johnston,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ww.middleweb.co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762120"/>
            <a:ext cx="1752840" cy="556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ke home point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sonaliz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wo-way communic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e vital when working with disaffected learner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e3e3ff"/>
                </a:solidFill>
                <a:uFillTx/>
                <a:latin typeface="Arial"/>
              </a:rPr>
              <a:t>Collaborative Classroom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is like a helium filled hula hoop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324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Kids are Different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len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at are they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65200">
            <a:off x="4420080" y="31240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ant feedback to be timely and two w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lenials See Leadership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particip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actical Strategies for At-Risk Stud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t students at the do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(do 10 out of 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ggravate th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Culture in Your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 –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fanfiction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ubrics… begin with the end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this more frequ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Remember this?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img023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5334120"/>
            <a:ext cx="47246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629400" y="3962520"/>
            <a:ext cx="1447920" cy="13716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id you get to be as good as you ar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5840" y="1774800"/>
            <a:ext cx="6232320" cy="3319200"/>
            <a:chOff x="1455840" y="1774800"/>
            <a:chExt cx="6232320" cy="3319200"/>
          </a:xfrm>
        </p:grpSpPr>
        <p:sp>
          <p:nvSpPr>
            <p:cNvPr id="150" name="_s12297"/>
            <p:cNvSpPr/>
            <p:nvPr/>
          </p:nvSpPr>
          <p:spPr>
            <a:xfrm>
              <a:off x="3728880" y="2363760"/>
              <a:ext cx="1686240" cy="16858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2298"/>
            <p:cNvSpPr/>
            <p:nvPr/>
          </p:nvSpPr>
          <p:spPr>
            <a:xfrm>
              <a:off x="3728880" y="17748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titu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2295"/>
            <p:cNvSpPr/>
            <p:nvPr/>
          </p:nvSpPr>
          <p:spPr>
            <a:xfrm>
              <a:off x="4282920" y="3325680"/>
              <a:ext cx="1686240" cy="16858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2296"/>
            <p:cNvSpPr/>
            <p:nvPr/>
          </p:nvSpPr>
          <p:spPr>
            <a:xfrm>
              <a:off x="600228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299"/>
            <p:cNvSpPr/>
            <p:nvPr/>
          </p:nvSpPr>
          <p:spPr>
            <a:xfrm>
              <a:off x="3173400" y="3324240"/>
              <a:ext cx="1685880" cy="16858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2300"/>
            <p:cNvSpPr/>
            <p:nvPr/>
          </p:nvSpPr>
          <p:spPr>
            <a:xfrm>
              <a:off x="145584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ki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type of teacher will you b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562720" y="4029120"/>
            <a:ext cx="22669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22:12Z</dcterms:created>
  <dc:creator>Information Technology</dc:creator>
  <dc:description/>
  <dc:language>en-US</dc:language>
  <cp:lastModifiedBy>setup</cp:lastModifiedBy>
  <dcterms:modified xsi:type="dcterms:W3CDTF">2011-02-18T20:01:11Z</dcterms:modified>
  <cp:revision>12</cp:revision>
  <dc:subject/>
  <dc:title>Engaging the Disaffected Learner </dc:title>
</cp:coreProperties>
</file>